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2D4A-E159-4CE0-9B92-1A4D69558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136B-4AE8-47A9-B4F7-11C5C4028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123A-3C3B-40EA-9E44-3F888C93A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F9C-2F6D-4636-8FF1-0AF0A8592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EFBB-2FCE-4708-8394-4C512FEAD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4918-245B-4BB2-94F8-00AEB1BA94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53AC-4D55-48F6-8F07-42EC445499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79E1-6228-42E8-9664-E2A93B4DA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E208-9418-44CA-A0D1-5E816648C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5710-0A8B-419E-A002-598DB4C75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E2DD-9F86-496F-A562-146FE98BF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1F6B-1981-47DC-9423-4714C39D1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80E-9906-4977-BF82-0E569B27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730-50D7-4021-8926-7F55E19A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78C-8FBA-43E6-9D31-4B275848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77E-749E-49DD-8787-0C5375A6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062-A7C0-4C3D-8026-13D227E3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864-F06D-4BC9-BF19-D5356CB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9C6-CD30-40B9-BB9D-E140D27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4D7-1BF7-48E9-B68E-3CAAC86C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296-42C6-4F23-9F78-74EE6708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A71-107E-4DBD-95EB-790D2CC9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F2D-089D-4FAB-9976-C7EE8037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2BF-4459-45BF-822F-15F9F98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19FD-AEC8-496D-8F8B-AC4AE5E5B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729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овицы 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2332080"/>
            <a:ext cx="7201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служит родине верно, тот долг исполняет пример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на — мать, умей за нее посто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 без родины — соловей без пес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за родину дерется, тому сила двойная д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ода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5977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несколько родов войск, которые должны обеспечить армию и флот всем необходимым. Это служба тыла, главное военно-медицинское управление, федеральное агентство по специальному строительству и службы расквартирования и обустройства и железнодорожные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469200" y="4005360"/>
            <a:ext cx="1162080" cy="14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8424720" y="6305400"/>
            <a:ext cx="71928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059520" cy="333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116000" y="4797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победит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войс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ухопутные войс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енно-воздушные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оенно-морской фл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23280" y="6305400"/>
            <a:ext cx="720720" cy="5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опу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назначены для ведения боя на суше. Они способны в совокупности с другими видами ВС вести наступление, отражать вторжение противника, наносить огневые удары и удерживать занимаемые территории и рубе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619280" y="4581360"/>
            <a:ext cx="1873080" cy="97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цццц"/>
          <p:cNvPicPr/>
          <p:nvPr/>
        </p:nvPicPr>
        <p:blipFill>
          <a:blip r:embed="rId4"/>
          <a:stretch/>
        </p:blipFill>
        <p:spPr>
          <a:xfrm>
            <a:off x="4356000" y="4221000"/>
            <a:ext cx="2133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воздушны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6913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 разведку, важные военно-экономические объекты и сухопутные войска обороняются от ударов с воздуха, перевозятся ценные грузы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2160360" cy="11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уввва"/>
          <p:cNvPicPr/>
          <p:nvPr/>
        </p:nvPicPr>
        <p:blipFill>
          <a:blip r:embed="rId4"/>
          <a:stretch/>
        </p:blipFill>
        <p:spPr>
          <a:xfrm>
            <a:off x="4427640" y="3933720"/>
            <a:ext cx="242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морской ф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199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ает интересы нашей страны во время ведения боевых действий на морских и океанических просторах, поддерживает сухопутные войска в операциях на континентальных театрах военных действи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160720" cy="108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прнеп"/>
          <p:cNvPicPr/>
          <p:nvPr/>
        </p:nvPicPr>
        <p:blipFill>
          <a:blip r:embed="rId4"/>
          <a:stretch/>
        </p:blipFill>
        <p:spPr>
          <a:xfrm>
            <a:off x="3059280" y="3860640"/>
            <a:ext cx="19904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ьоррр"/>
          <p:cNvPicPr/>
          <p:nvPr/>
        </p:nvPicPr>
        <p:blipFill>
          <a:blip r:embed="rId5"/>
          <a:stretch/>
        </p:blipFill>
        <p:spPr>
          <a:xfrm>
            <a:off x="5435640" y="393372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а войс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627552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акет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шно-десан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388360" y="6278400"/>
            <a:ext cx="755640" cy="5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ке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68263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ются главным компонентом стратегических ядерных сил России, так как предназначены для поражения групповыми, массированными или одиночными ракетно-ядерными ударами стратегических объектов проти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2158920" cy="1265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8317080" y="6222960"/>
            <a:ext cx="826920" cy="63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шгнн"/>
          <p:cNvPicPr/>
          <p:nvPr/>
        </p:nvPicPr>
        <p:blipFill>
          <a:blip r:embed="rId3"/>
          <a:stretch/>
        </p:blipFill>
        <p:spPr>
          <a:xfrm>
            <a:off x="3276720" y="407664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лор"/>
          <p:cNvPicPr/>
          <p:nvPr/>
        </p:nvPicPr>
        <p:blipFill>
          <a:blip r:embed="rId4"/>
          <a:stretch/>
        </p:blipFill>
        <p:spPr>
          <a:xfrm>
            <a:off x="5435640" y="4005360"/>
            <a:ext cx="2219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706752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 собой принципиально новый род войск, имеющих целью обеспечить безопасность РФ в космической сф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8388360" y="6276960"/>
            <a:ext cx="755640" cy="58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нек"/>
          <p:cNvPicPr/>
          <p:nvPr/>
        </p:nvPicPr>
        <p:blipFill>
          <a:blip r:embed="rId2"/>
          <a:stretch/>
        </p:blipFill>
        <p:spPr>
          <a:xfrm>
            <a:off x="2843280" y="378936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ыцц"/>
          <p:cNvPicPr/>
          <p:nvPr/>
        </p:nvPicPr>
        <p:blipFill>
          <a:blip r:embed="rId3"/>
          <a:stretch/>
        </p:blipFill>
        <p:spPr>
          <a:xfrm>
            <a:off x="5219640" y="2924280"/>
            <a:ext cx="2352600" cy="142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мпе"/>
          <p:cNvPicPr/>
          <p:nvPr/>
        </p:nvPicPr>
        <p:blipFill>
          <a:blip r:embed="rId4"/>
          <a:stretch/>
        </p:blipFill>
        <p:spPr>
          <a:xfrm>
            <a:off x="684360" y="2924280"/>
            <a:ext cx="2114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шно-десантные вой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692316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од войск вооруженных сил, обладающий высокой мобильностью. Их главная задача — ведение боевых действий в тылу проти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042920" y="3933720"/>
            <a:ext cx="1368360" cy="135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8459640" y="6332400"/>
            <a:ext cx="684360" cy="525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рррр"/>
          <p:cNvPicPr/>
          <p:nvPr/>
        </p:nvPicPr>
        <p:blipFill>
          <a:blip r:embed="rId3"/>
          <a:stretch/>
        </p:blipFill>
        <p:spPr>
          <a:xfrm>
            <a:off x="2556000" y="3789360"/>
            <a:ext cx="242892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хъъъзщ"/>
          <p:cNvPicPr/>
          <p:nvPr/>
        </p:nvPicPr>
        <p:blipFill>
          <a:blip r:embed="rId4"/>
          <a:stretch/>
        </p:blipFill>
        <p:spPr>
          <a:xfrm>
            <a:off x="5292720" y="386064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18:34Z</dcterms:created>
  <dc:creator>Семова</dc:creator>
  <dc:description/>
  <dc:language>en-US</dc:language>
  <cp:lastModifiedBy>user</cp:lastModifiedBy>
  <dcterms:modified xsi:type="dcterms:W3CDTF">2015-02-17T20:49:05Z</dcterms:modified>
  <cp:revision>29</cp:revision>
  <dc:subject/>
  <dc:title>23 февраля – День защитника Отечества</dc:title>
</cp:coreProperties>
</file>